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C148-64F0-431C-9472-66384209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E5D-1F8E-45AB-B05E-949E71D9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B6A-06F1-4C32-98C6-402481CB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2A1-609F-4D6D-8CF5-3E5EDDB3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4858-2FB5-4F29-B652-FAEAB47C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F30E-F40D-4BEF-A789-895A6587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0F51-01A7-4EC4-BD62-64D5138E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2552-4948-4BFA-9CEB-1CCD28A9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C5B5-04A6-4771-8995-8849AF0B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0AF9-3B29-4F53-808D-F1AF66DC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392-1903-4B06-8A62-2C3766BB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0684-22FA-4532-9EF6-B5645CA8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99C-32C6-46B4-B1D4-AACB214C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76EE-9CC9-4E0E-A154-F2B4558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28A-C48B-43EC-A4E5-BB2F3BB3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8F39-FDF2-4729-855A-A0306616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7CF0-0355-43B6-9B85-031D82D96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3C3-2594-488B-995F-119484E9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026-14ED-4047-AE48-75F225E1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901-23AB-43C1-9DD5-8E7DA246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807-932B-4EB3-8BD3-8B214CF5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677-1253-4C1F-B9D0-AC496271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CB6-CC84-4210-BAB7-C2E04BEE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577-34B1-4970-BD0E-5E95952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BB28-5CF3-4A52-96DB-6D9F1D4A22F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7B43-1EBB-4A9C-9FAA-EF9319BEB6D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200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Freshman Clas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4560" y="5866920"/>
            <a:ext cx="883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Purpose of Advisory Period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3526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6172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OVERALL GOALS OF ADVISORY PERI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33720" y="23623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Plan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Testing Strategi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AT &amp; AIMS Prepar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Plann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ty Service Projec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e School Spirit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shmen Transi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on Civic Responsibilit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Portfoli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WHAT IS THE PURPOSE </a:t>
            </a:r>
            <a:br>
              <a:rPr sz="4400"/>
            </a:br>
            <a:r>
              <a:rPr b="1" lang="en-US" sz="4400" spc="-1" strike="noStrike">
                <a:solidFill>
                  <a:srgbClr val="703dff"/>
                </a:solidFill>
                <a:latin typeface="Arial"/>
              </a:rPr>
              <a:t>OF ADVISORY PERIO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46880" y="2971800"/>
            <a:ext cx="318924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Freshman Focus:</a:t>
            </a:r>
            <a:br>
              <a:rPr sz="4800"/>
            </a:b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WELCOME TO H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DO HS BASIC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am I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do I belong?  (clubs, etc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 am I going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manage my tim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stud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I help my commun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ASD</cp:lastModifiedBy>
  <dcterms:modified xsi:type="dcterms:W3CDTF">2010-06-03T19:04:42Z</dcterms:modified>
  <cp:revision>9</cp:revision>
  <dc:subject/>
  <dc:title>Sophomore Class </dc:title>
</cp:coreProperties>
</file>